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9070-6624-4548-82E5-40298218D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6F1C-37EF-4E73-BE41-1C2C140D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14F9-9F66-4DB6-90A5-6E3F0636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439D-2C96-4E56-BA92-EE86D27B1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9004-D329-4812-87A2-58553AD42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8DBD-CD1B-4DF7-9D2D-1236BB09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B377-8EF9-4EA8-A2DA-6B9F600D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2937-C673-465A-A270-F7896AC1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06FA-4C22-42BE-B881-8F9CA86E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4FFF-1B40-4931-8D07-230A03D5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F345-976A-4022-836B-F24A4F68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7C29-E805-42DE-8DD3-109162A9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66CD-02D0-4627-8B29-C3636364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DFB2-F08B-4EEC-91C0-CE9B2461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D008-3486-48BD-8DE8-91326CEF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69D1-C02E-4A8F-9106-749DD8D83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3414-01C7-4628-9F16-E5B4FB529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E28C-A7BB-4899-A0D3-FEA483DB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353E-2544-4C03-B3FC-418CE931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C969-A123-4FAA-85AF-44B0F810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168F-1C42-48BC-8AA1-CDF1C64B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735A-1363-4044-A6B8-7760954C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4B43-6CF1-4CDA-97A6-4C7E5E53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0C71-CE11-4FFA-9358-56E3C0BC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C11281-B063-40B8-9B02-9AB932F45A0D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7F6D74-D5D9-4F35-85F5-D75C44FA6A35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7BBD86-19CF-47F6-8D7A-0EFBC09A8A91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7F4AC2-0260-49C3-9123-B2C881B6A086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How to Get Started on Wiki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Mr. Rush/ Mr. Farrell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How to Start a Wiki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86" name="Macintosh HD:Users:Craig:Movies:Screenium:20110206-122918.mov" descr="/Users/Craig/Movies/Screenium/20110206-122918.mov"/>
          <p:cNvPicPr/>
          <p:nvPr/>
        </p:nvPicPr>
        <p:blipFill>
          <a:blip r:embed="rId2"/>
          <a:stretch/>
        </p:blipFill>
        <p:spPr>
          <a:xfrm>
            <a:off x="1095480" y="1600200"/>
            <a:ext cx="6949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How to Name your Wiki-World History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88" name="Macintosh HD:Users:Craig:Movies:Screenium:20110206-123414.mov" descr="/Users/Craig/Movies/Screenium/20110206-123414.mov"/>
          <p:cNvPicPr/>
          <p:nvPr/>
        </p:nvPicPr>
        <p:blipFill>
          <a:blip r:embed="rId2"/>
          <a:stretch/>
        </p:blipFill>
        <p:spPr>
          <a:xfrm>
            <a:off x="1095480" y="1600200"/>
            <a:ext cx="6949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How to Name your Wiki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ame it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hshroder__________(your 1</a:t>
            </a:r>
            <a:r>
              <a:rPr b="0" lang="en-US" sz="2400" spc="-1" strike="noStrike" baseline="30000">
                <a:solidFill>
                  <a:srgbClr val="595959"/>
                </a:solidFill>
                <a:latin typeface="News Gothic MT"/>
              </a:rPr>
              <a:t>st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name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f 2 in class have the same 1</a:t>
            </a:r>
            <a:r>
              <a:rPr b="0" lang="en-US" sz="2400" spc="-1" strike="noStrike" baseline="30000">
                <a:solidFill>
                  <a:srgbClr val="595959"/>
                </a:solidFill>
                <a:latin typeface="News Gothic MT"/>
              </a:rPr>
              <a:t>st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name, type whshroderrodneyb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hshroderrodneybu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 </a:t>
            </a: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reate 1</a:t>
            </a:r>
            <a:r>
              <a:rPr b="0" lang="en-US" sz="4600" spc="-1" strike="noStrike" baseline="30000">
                <a:solidFill>
                  <a:srgbClr val="2c7c9f"/>
                </a:solidFill>
                <a:latin typeface="News Gothic MT"/>
              </a:rPr>
              <a:t>st</a:t>
            </a: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 page/ Invite to Joi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2" name="Macintosh HD:Users:Craig:Movies:Screenium:20110206-125822.mov" descr="/Users/Craig/Movies/Screenium/20110206-125822.mov"/>
          <p:cNvPicPr/>
          <p:nvPr/>
        </p:nvPicPr>
        <p:blipFill>
          <a:blip r:embed="rId2"/>
          <a:stretch/>
        </p:blipFill>
        <p:spPr>
          <a:xfrm>
            <a:off x="1095480" y="1600200"/>
            <a:ext cx="6949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Linking Assignments to Wiki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4" name="Macintosh HD:Users:Craig:Movies:Screenium:20110207-083347.mov" descr=""/>
          <p:cNvPicPr/>
          <p:nvPr/>
        </p:nvPicPr>
        <p:blipFill>
          <a:blip r:embed="rId2"/>
          <a:stretch/>
        </p:blipFill>
        <p:spPr>
          <a:xfrm>
            <a:off x="1095480" y="1600200"/>
            <a:ext cx="6949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How to Embed a Dipit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6" name="Macintosh HD:Users:Craig:Movies:Screenium:20110204-162958.mov" descr="/Users/Craig/Movies/Screenium/20110204-162958.mov"/>
          <p:cNvPicPr/>
          <p:nvPr/>
        </p:nvPicPr>
        <p:blipFill>
          <a:blip r:embed="rId2"/>
          <a:stretch/>
        </p:blipFill>
        <p:spPr>
          <a:xfrm>
            <a:off x="1095480" y="1600200"/>
            <a:ext cx="6949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3:28:29Z</dcterms:created>
  <dc:creator>Craig Rush</dc:creator>
  <dc:description/>
  <dc:language>en-US</dc:language>
  <cp:lastModifiedBy>Craig Rush</cp:lastModifiedBy>
  <dcterms:modified xsi:type="dcterms:W3CDTF">2011-02-07T13:52:07Z</dcterms:modified>
  <cp:revision>4</cp:revision>
  <dc:subject/>
  <dc:title>How to Get Started on Wiki</dc:title>
</cp:coreProperties>
</file>